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35A-E963-4A65-9AAD-8848E99C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825-E035-4157-8BFA-58BCD60E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D416-ECCF-4A22-80A1-DFA9D125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BF6-4208-470E-8387-40ECBBCF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762E-A151-44CE-9407-E946B8E0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7A1C-8E1E-4F39-B7C5-D791AE6F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D35D-E321-4257-9D51-54783533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F5AC-2B8D-4E9A-9951-F03C779D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EBC0-A19F-4A39-8B80-4A9E8A65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E974-48AB-47B7-8703-88702F1C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53DC-2586-4E8F-8BD2-D045142E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DAB-430F-4614-9925-E46D435F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31BA-0E15-4C0B-95B9-2DBB3299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8D05-5490-4498-9551-D52CCDEC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2177-E5F8-4BB9-B92A-EFF40C7E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ACD1-DFD9-42BF-819E-D4F2B908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E82B-F04C-4638-9EE5-C5148B4F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D57-7A5E-4E34-8238-49B36E7F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FB9-7305-42A2-B781-0F725501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988-429E-47E7-89CB-D895EE1C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D95-7061-497D-9D11-633ECC34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7D5-ADC6-43CD-BF2B-30B2DA4D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374E-BB07-4AC0-A555-FD1770F1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DDC-5F53-4416-9635-D62292DE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58A1-A0BD-4C78-B4A1-E79605C567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0F08-9722-456C-9F6C-23047A0E56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12f1b"/>
                </a:solidFill>
                <a:latin typeface="Verdana"/>
              </a:rPr>
              <a:t>Order of Operations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7400" y="3581280"/>
            <a:ext cx="51055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1 + 3) x (8 - 4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x (8 – 4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x 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5181480"/>
            <a:ext cx="2667240" cy="838440"/>
          </a:xfrm>
          <a:prstGeom prst="leftArrow">
            <a:avLst>
              <a:gd name="adj1" fmla="val 50000"/>
              <a:gd name="adj2" fmla="val 7953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6 - 6 + (7 - 0) – 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6 – 6 + 7  - 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0 + 7 – 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 – 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5181480"/>
            <a:ext cx="2667240" cy="838440"/>
          </a:xfrm>
          <a:prstGeom prst="leftArrow">
            <a:avLst>
              <a:gd name="adj1" fmla="val 50000"/>
              <a:gd name="adj2" fmla="val 7953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- 3 + (5 - 1) – 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– 3 + 4 -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+ 4 – 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 – 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5181480"/>
            <a:ext cx="2667240" cy="838440"/>
          </a:xfrm>
          <a:prstGeom prst="leftArrow">
            <a:avLst>
              <a:gd name="adj1" fmla="val 50000"/>
              <a:gd name="adj2" fmla="val 7953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 + 9 x 8 – 6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 + 9 X 8 – 3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 + 72 – 3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75 – 3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181480"/>
            <a:ext cx="2667240" cy="838440"/>
          </a:xfrm>
          <a:prstGeom prst="leftArrow">
            <a:avLst>
              <a:gd name="adj1" fmla="val 50000"/>
              <a:gd name="adj2" fmla="val 7953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8915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4 / 6 x 2 x 2 / 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 x 2 x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 x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5181480"/>
            <a:ext cx="2667240" cy="838440"/>
          </a:xfrm>
          <a:prstGeom prst="leftArrow">
            <a:avLst>
              <a:gd name="adj1" fmla="val 50000"/>
              <a:gd name="adj2" fmla="val 7953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+3 x (4+(6 x 3-8)) x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+ 3 x (4 + (18 – 8)) x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+ 3 x (4 + 10) x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+ 3 x 14 x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+ 42 x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+ 8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8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5181480"/>
            <a:ext cx="2667240" cy="838440"/>
          </a:xfrm>
          <a:prstGeom prst="leftArrow">
            <a:avLst>
              <a:gd name="adj1" fmla="val 50000"/>
              <a:gd name="adj2" fmla="val 7953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order in which mathematicians perform math problem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1240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31240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enthesis – working inward out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ltiply or Divide – 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or Subtract – 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781680" y="2819520"/>
            <a:ext cx="1208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nemoni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Verdana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renthes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Verdana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cu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on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Verdana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46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y or Divide – Left to Righ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Verdan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t </a:t>
            </a:r>
            <a:r>
              <a:rPr b="0" lang="en-US" sz="4200" spc="-1" strike="noStrike">
                <a:solidFill>
                  <a:srgbClr val="cc0000"/>
                </a:solidFill>
                <a:latin typeface="Verdan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d or Subtract – Left to Righ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24480" y="1752480"/>
            <a:ext cx="1413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3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3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3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3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3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3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1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x 3 - (4-2) +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1080" y="2286000"/>
            <a:ext cx="1905120" cy="825480"/>
            <a:chOff x="1981080" y="2286000"/>
            <a:chExt cx="1905120" cy="825480"/>
          </a:xfrm>
        </p:grpSpPr>
        <p:sp>
          <p:nvSpPr>
            <p:cNvPr id="98" name=""/>
            <p:cNvSpPr/>
            <p:nvPr/>
          </p:nvSpPr>
          <p:spPr>
            <a:xfrm>
              <a:off x="1981080" y="27432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819160" y="2286000"/>
              <a:ext cx="457200" cy="4572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841920" y="2286000"/>
            <a:ext cx="1445760" cy="673200"/>
            <a:chOff x="3841920" y="2286000"/>
            <a:chExt cx="1445760" cy="673200"/>
          </a:xfrm>
        </p:grpSpPr>
        <p:sp>
          <p:nvSpPr>
            <p:cNvPr id="101" name=""/>
            <p:cNvSpPr/>
            <p:nvPr/>
          </p:nvSpPr>
          <p:spPr>
            <a:xfrm>
              <a:off x="3841920" y="259092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arenth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724280" y="2286000"/>
              <a:ext cx="0" cy="3808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242160" y="2209680"/>
            <a:ext cx="1424160" cy="1511280"/>
            <a:chOff x="3242160" y="2209680"/>
            <a:chExt cx="1424160" cy="1511280"/>
          </a:xfrm>
        </p:grpSpPr>
        <p:sp>
          <p:nvSpPr>
            <p:cNvPr id="104" name=""/>
            <p:cNvSpPr/>
            <p:nvPr/>
          </p:nvSpPr>
          <p:spPr>
            <a:xfrm>
              <a:off x="3242160" y="3352680"/>
              <a:ext cx="142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ubt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3733560" y="2209680"/>
              <a:ext cx="304560" cy="990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275080" y="2209680"/>
            <a:ext cx="1089000" cy="1435320"/>
            <a:chOff x="5275080" y="2209680"/>
            <a:chExt cx="1089000" cy="1435320"/>
          </a:xfrm>
        </p:grpSpPr>
        <p:sp>
          <p:nvSpPr>
            <p:cNvPr id="107" name=""/>
            <p:cNvSpPr/>
            <p:nvPr/>
          </p:nvSpPr>
          <p:spPr>
            <a:xfrm>
              <a:off x="5275080" y="327672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5562360" y="2209680"/>
              <a:ext cx="228600" cy="990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129720" y="2209680"/>
            <a:ext cx="1311480" cy="901800"/>
            <a:chOff x="6129720" y="2209680"/>
            <a:chExt cx="1311480" cy="901800"/>
          </a:xfrm>
        </p:grpSpPr>
        <p:sp>
          <p:nvSpPr>
            <p:cNvPr id="110" name=""/>
            <p:cNvSpPr/>
            <p:nvPr/>
          </p:nvSpPr>
          <p:spPr>
            <a:xfrm>
              <a:off x="6129720" y="274320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xpon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6171840" y="2209680"/>
              <a:ext cx="228600" cy="4572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x 3 - (4-2) +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5909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x 3 -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70520" y="228600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Pare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48640" y="304812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Ex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2670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- 2 + 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05880" y="38862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Multi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33526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x 3 - 2 +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8760" y="480060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Add or Subtract – 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51814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563868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ple 2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66640" y="1752480"/>
            <a:ext cx="80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X 6 – (3 + 4) +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600200" y="2286000"/>
            <a:ext cx="1905120" cy="825480"/>
            <a:chOff x="1600200" y="2286000"/>
            <a:chExt cx="1905120" cy="825480"/>
          </a:xfrm>
        </p:grpSpPr>
        <p:sp>
          <p:nvSpPr>
            <p:cNvPr id="125" name=""/>
            <p:cNvSpPr/>
            <p:nvPr/>
          </p:nvSpPr>
          <p:spPr>
            <a:xfrm>
              <a:off x="1600200" y="27432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438280" y="2286000"/>
              <a:ext cx="457200" cy="4572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841920" y="2286000"/>
            <a:ext cx="1445760" cy="673200"/>
            <a:chOff x="3841920" y="2286000"/>
            <a:chExt cx="1445760" cy="673200"/>
          </a:xfrm>
        </p:grpSpPr>
        <p:sp>
          <p:nvSpPr>
            <p:cNvPr id="128" name=""/>
            <p:cNvSpPr/>
            <p:nvPr/>
          </p:nvSpPr>
          <p:spPr>
            <a:xfrm>
              <a:off x="3841920" y="259092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arenthe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724280" y="2286000"/>
              <a:ext cx="0" cy="3808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937600" y="2209680"/>
            <a:ext cx="1424160" cy="1511280"/>
            <a:chOff x="2937600" y="2209680"/>
            <a:chExt cx="1424160" cy="1511280"/>
          </a:xfrm>
        </p:grpSpPr>
        <p:sp>
          <p:nvSpPr>
            <p:cNvPr id="131" name=""/>
            <p:cNvSpPr/>
            <p:nvPr/>
          </p:nvSpPr>
          <p:spPr>
            <a:xfrm>
              <a:off x="2937600" y="3352680"/>
              <a:ext cx="142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ubt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429000" y="2209680"/>
              <a:ext cx="304920" cy="990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275080" y="2362320"/>
            <a:ext cx="1089000" cy="1282680"/>
            <a:chOff x="5275080" y="2362320"/>
            <a:chExt cx="1089000" cy="1282680"/>
          </a:xfrm>
        </p:grpSpPr>
        <p:sp>
          <p:nvSpPr>
            <p:cNvPr id="134" name=""/>
            <p:cNvSpPr/>
            <p:nvPr/>
          </p:nvSpPr>
          <p:spPr>
            <a:xfrm>
              <a:off x="5275080" y="327672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791320" y="2362320"/>
              <a:ext cx="0" cy="8380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129720" y="2209680"/>
            <a:ext cx="1311480" cy="901800"/>
            <a:chOff x="6129720" y="2209680"/>
            <a:chExt cx="1311480" cy="901800"/>
          </a:xfrm>
        </p:grpSpPr>
        <p:sp>
          <p:nvSpPr>
            <p:cNvPr id="137" name=""/>
            <p:cNvSpPr/>
            <p:nvPr/>
          </p:nvSpPr>
          <p:spPr>
            <a:xfrm>
              <a:off x="6129720" y="2743200"/>
              <a:ext cx="131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xpon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171840" y="2209680"/>
              <a:ext cx="228600" cy="4572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66280" y="17521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X 6 – (3 + 4) +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5909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x 6 -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70520" y="228600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Pare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8640" y="304812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Ex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2670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2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7 +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05880" y="38862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Multi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33526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 X 6 – 7 +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8760" y="480060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Add or Subtract – 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1814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17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563868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2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actice Proble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5605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 + 5 x 7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548400" y="2679840"/>
          <a:ext cx="114480" cy="20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48400" y="2679840"/>
                    <a:ext cx="11448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33520" y="2286000"/>
            <a:ext cx="560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1 + 3) x (8 - 4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819520"/>
            <a:ext cx="560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 - 6 + (7 - 0) - 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429000"/>
            <a:ext cx="560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 - 3 + (5 - 1) - 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962520"/>
            <a:ext cx="560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3 + 9 x 8 – 6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4572000"/>
            <a:ext cx="5605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411480" indent="-411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4   6 x 2 x 2   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480" indent="-4114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81480"/>
            <a:ext cx="56052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+3 x (4+(6 x 3-8)) x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4" action="ppaction://hlinksldjump"/>
          </p:cNvPr>
          <p:cNvSpPr/>
          <p:nvPr/>
        </p:nvSpPr>
        <p:spPr>
          <a:xfrm>
            <a:off x="6172200" y="1828800"/>
            <a:ext cx="22860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5" action="ppaction://hlinksldjump"/>
          </p:cNvPr>
          <p:cNvSpPr/>
          <p:nvPr/>
        </p:nvSpPr>
        <p:spPr>
          <a:xfrm>
            <a:off x="6172200" y="2362320"/>
            <a:ext cx="22860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6" action="ppaction://hlinksldjump"/>
          </p:cNvPr>
          <p:cNvSpPr/>
          <p:nvPr/>
        </p:nvSpPr>
        <p:spPr>
          <a:xfrm>
            <a:off x="6172200" y="2971800"/>
            <a:ext cx="22860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7" action="ppaction://hlinksldjump"/>
          </p:cNvPr>
          <p:cNvSpPr/>
          <p:nvPr/>
        </p:nvSpPr>
        <p:spPr>
          <a:xfrm>
            <a:off x="6172200" y="3581280"/>
            <a:ext cx="22860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4114800"/>
            <a:ext cx="22860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4648320"/>
            <a:ext cx="22860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5257800"/>
            <a:ext cx="22860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600200" y="4648320"/>
                <a:ext cx="368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429000" y="4648320"/>
                <a:ext cx="368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362320" y="1752480"/>
            <a:ext cx="5029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3 + 5 x 7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3 + 35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38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5181480"/>
            <a:ext cx="2667240" cy="838440"/>
          </a:xfrm>
          <a:prstGeom prst="leftArrow">
            <a:avLst>
              <a:gd name="adj1" fmla="val 50000"/>
              <a:gd name="adj2" fmla="val 7953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23:35:34Z</dcterms:created>
  <dc:creator>Melinda Dolen</dc:creator>
  <dc:description/>
  <dc:language>en-US</dc:language>
  <cp:lastModifiedBy>Parkland High School</cp:lastModifiedBy>
  <dcterms:modified xsi:type="dcterms:W3CDTF">2010-09-16T12:12:40Z</dcterms:modified>
  <cp:revision>7</cp:revision>
  <dc:subject/>
  <dc:title>Order of Operations</dc:title>
</cp:coreProperties>
</file>